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3345-2FF1-4ED7-972C-5EEF38F8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9F36-11D8-4C0E-8B00-9103FFB80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7022-1E1B-403D-B0F0-E085363C5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00A4D-6F30-495C-AE64-597C1F555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1EBFA-1D58-4CCD-90F5-F9F223FAC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952F-4A00-4F79-BEE3-BE7C950ED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 troubl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garnis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is garnishme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egal procedure that withholds a portion of your earnings for the paym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he limits of garnish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esser of 25% of your disposable income or 30 times the federal hourly minimum w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may be able to get a “Claim of Exemption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laim of exemption (only if you meet all of the following conditi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family is living in the st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 the money you earn is needed to provide necessiti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bt was for a necessity (food, housing, medical care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arnishment has already been start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protection you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not be fired for any one garnish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 law is enfor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forced by the Secretary of Labor through the Wage and Hour Division of the U.S. Department of Labo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705348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 assignment and wage attach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ssig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es not have legal force from a court, as wage garnishment do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t is a legal agreement between a lender and a deb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ermits lender to collect part of debtor’s wages from an employer if debtor fails to make regular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ployer is not legally compelled to honor a wage assignment arrange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tach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on’t have a job, a lender can get a court order to “attach” or seize some of your property to pay of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709164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ar 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seize car as soon as you defaul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’t commit a breach of the peace, i.e., use physical force or threats of fo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keep car or resell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 such as a stereo or luggage rack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uy back car by paying the full amount owed on it plus repossession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your responsibili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st still pay the “deficiency balance”—the amount of debt remaining even after your creditor has sold your ca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708984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ge-earner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it wor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etition bankruptcy court to approve a plan to pay off your deb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urt accepts plan if you can pay off, in three years, at least as much as your creditors would receive if you filed straight bankruptc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on all your loans stop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ors must contact the court, instead of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paid as agreed, at the end of three years your debts are considered paid in fu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costs range between 15% and 25% of amount ow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ometimes salvage your credi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avoid being harassed by your credi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y being required to draw up a budget and determine exactly how much you can actually afford to pay, you are forced into being realistic about your budg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lenders don’t react favorably when they see wage-earner bankruptcy on a credit report because some people use it to protect their property and pay less of their deb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0628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raight bankruptc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uration on your credit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p to 10 yea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may still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ax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hild suppor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imo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llege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n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egal deb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-signer oblig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you no longer ow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tail store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ank credit card char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secured loa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paid hospital or physician bill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07220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y consumers don’t pay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ss of income (4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nemployment (2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llness (16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(divorce, death) (8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verextension (25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or money manage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mergenc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terialis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eed for instant gratific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fective goods and services (20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raudulent use of credit (4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ther (3%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672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ning signs of troubl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don’t know how much you ow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often pay bills lat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get a new loan to pay old loa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pay only the minimum balance due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spend more than 20% of your net income (after paying rent or mortgage) on debt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would have an immediate financial problem if you lost your job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’re spending more than you earn, using your savings to pay for day-to-day expens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irst steps to take if you can’t pay your bill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ake another (close) look at your budge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im your expens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e realistic about what you can afford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ntact your credito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ell them why you can’t pay, that you intend to pay, and when/how much you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 will be able to pay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ay be able to work out a new payment schedu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possible, continue to make the minimum payment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706284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143000" y="1143000"/>
          <a:ext cx="6858000" cy="405936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1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b #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xed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Insura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r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80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exible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ating ou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45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 close look at your budget </a:t>
            </a:r>
            <a:r>
              <a:rPr b="0" i="1" lang="en-US" sz="2000" spc="-1" strike="noStrike">
                <a:solidFill>
                  <a:srgbClr val="30797b"/>
                </a:solidFill>
                <a:latin typeface="Verdana"/>
              </a:rPr>
              <a:t>(continued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143000" y="1143000"/>
          <a:ext cx="6858000" cy="435600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</a:tblGrid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lanne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ctua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differenc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919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portatio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s far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s &amp; oil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king &amp; toll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air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othing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tertain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 item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the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expense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incom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Text Box 123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redit counsel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144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ational Foundation for Consumer Credit (NFC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gram that offers information on financial and consumer topics. All cities wit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populations of 50,000, and 1,500 locations nationwid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views your incom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set up a realistic personal budge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ay contact your creditors and make arrangements for reduced payments on your bil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elps you plan for future expens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rvices, depending on location, may be available for no charge or reasonable fe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ed in yellow pages under “credit counseling” or call (800) 388-2227 for a loc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nearest you. Or you can visit NFCC online at nfcc.org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70696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olidating your deb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an consolid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ou make only one payment, usually lower than the total amount of y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monthly debt pay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est to use only when combined with cred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own a home, consider your spending habits carefully before you take o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 home equity loan. You could end up with a loan and large credit card bills if you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on’t change your spending habi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tch out for “credit repair” compan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for-profi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nsolidation loa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ffer debt counsel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dvertise they can erase a poor credit history (no one can do this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707220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fair debt collection pract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u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form you, in writing, of the amount of your debt, the name of the creditor, and an explanation of your right to dispute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you dispute the debt, the debt collector must give you written proof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 debt collector may 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ontact you at unusual times or pla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isclose what you owe to anyone but your attor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arass or threaten yo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 false statement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ive false information about you to anyon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srepresent the legal status of the deb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gage in any kind of unfair practice, such as trying to collect an amount greater than you ow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0574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20T18:25:35Z</dcterms:modified>
  <cp:revision>33</cp:revision>
  <dc:subject/>
  <dc:title>lesson three</dc:title>
</cp:coreProperties>
</file>