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3B26-92F1-46D3-ABE1-3192C7AE1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7ECC0-690F-4F7F-B993-0E4993D13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2DAD-7E6B-4F65-A412-8F853BD6C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six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075800" y="6323400"/>
            <a:ext cx="1637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072560" y="6323400"/>
            <a:ext cx="163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069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7544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16760" y="6323400"/>
            <a:ext cx="1701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028280" y="6323400"/>
            <a:ext cx="1686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045200" y="6323400"/>
            <a:ext cx="168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05996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06356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05348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080120" y="6323400"/>
            <a:ext cx="165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044840" y="6323400"/>
            <a:ext cx="1675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037640" y="6323400"/>
            <a:ext cx="168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6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6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8T18:14:17Z</dcterms:modified>
  <cp:revision>76</cp:revision>
  <dc:subject/>
  <dc:title>lesson three</dc:title>
</cp:coreProperties>
</file>