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A9A7C-668D-4C21-A0D8-12404CF08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38116-C2D3-4853-AF96-949098F604B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56DA3-4234-4A3E-A48F-5D70B2AD4358}"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C2B14-6DA3-4CBF-B211-BA4577A07AF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D602B-8F89-455A-9A55-9CCC5AD4A3A4}"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F1271-2357-40D7-BEF2-D35E87B6DD2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five</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075800" y="6323400"/>
            <a:ext cx="16376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070760" y="6323400"/>
            <a:ext cx="16315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6140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05744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04700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244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05204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05528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07364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349360" y="819000"/>
            <a:ext cx="4445280" cy="5220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39480" indent="-3394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044840" y="6323400"/>
            <a:ext cx="1675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037640" y="6323400"/>
            <a:ext cx="168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5 - slide</a:t>
            </a:r>
            <a:r>
              <a:rPr b="1" lang="en-US" sz="900" spc="-1" strike="noStrike">
                <a:solidFill>
                  <a:srgbClr val="30797b"/>
                </a:solidFill>
                <a:latin typeface="Verdana"/>
              </a:rPr>
              <a:t> 5-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09-18T22:30:45Z</dcterms:modified>
  <cp:revision>41</cp:revision>
  <dc:subject/>
  <dc:title>lesson three</dc:title>
</cp:coreProperties>
</file>