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D4E5-B59D-405B-BA1F-65154588A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3854-C1CC-45B1-950C-19E32AF2E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71A5-4A48-4AD0-8FA0-A0E4C6419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hre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uying a hom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buying a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1: determine home-ownership nee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housing should I buy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can I afford to spen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2: locate and evaluate a hom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re do I want to liv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spects of the home need improve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3: price the propert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an appropriate market pric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negotiation movement exist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4: obtain financ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down payment is availabl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are current mortgage rates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an I qualify for a mortgag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type of mortgage should I ge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hase 5: close the purchase transac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is the closing date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funds and documents will be needed for the clos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s everything understood before the final signing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7055280" y="6323400"/>
            <a:ext cx="1672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qualifying for a mortgag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ermine the estimated value of the home you would like to purcha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btain funds for a down payment from savings or through gifts or loans from family memb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duce other debts or improve your credit record, if necessar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are fees, services, and mortgage rates for different lende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epare the mortgage applic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mortgage acceptance will be based on your credit recor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of the mortgage for which you qualify will be influenced b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mount available for a down pay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7060320" y="6323400"/>
            <a:ext cx="166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mortgag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ixed-rate, fixed-payment mortg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3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ventional 15- or 20-year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HA/VA fixed-rat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alloon” loan (3-10 year term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djustable-rate, variable payment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justable-rate mortgage (AR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duated-payment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owing-equity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other financing method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uydow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ared-appreciation mortgage (SAM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cond-mortgage (home equity loan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verse mortg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financ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7047000" y="6323400"/>
            <a:ext cx="1666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osing cost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t the real estate transaction settlement, commonly referred to as the “closing”, the following are some costs that are typically incurred by a person buying a hom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search fee ($10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itle insurance ($300-$2,0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ttorney fees ($200-$7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aisal fee ($300-$5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cording fees and transfer taxes ($50-$20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dit report ($25-$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ite inspection ($50-$150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der’s origination fee (1-3% of loan amoun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rves for home insurance and property taxes (amount vari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 paid in advance (if applicabl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7050600" y="6323400"/>
            <a:ext cx="167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lling your hom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putting your home on the market, make any preparations that could increase appeal and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necessary repai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int exterior and interior are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date various features (such as new carpeting or plumbing fixtur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termine the selling price, based 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appraisal to estimate current market valu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location, features, and age of the h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urrent mortgage rates and market demand in your are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e if you will do a "sale by owner"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vertise your home in various media (e.g., newspapers, Internet, flyer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 ready to meet and show your home to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ke use of the services of a lawyer and/or title company for the legal aspec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ider using the services of a real estate ag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view two or more agents to compare their services and exper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ct the agent to provide a marketing plan and to handle the financial and legal aspects of the sa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unicate with the agent on a regular basis regarding the selling price and prospective buy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055280" y="6323400"/>
            <a:ext cx="1657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3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3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0-07T22:38:05Z</dcterms:modified>
  <cp:revision>32</cp:revision>
  <dc:subject/>
  <dc:title>lesson three</dc:title>
</cp:coreProperties>
</file>