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B435-E9A1-44FA-B436-353DBD395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3040-AC2F-4260-8F31-B2AAF86DF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8DE6-F238-4310-B2A2-85B396A07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0B1AF-E994-470F-AE16-3522AEE8C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994D-D469-41BA-B719-749B2F1C25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9EE0-3169-4AFE-B615-44C62E106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eight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ving and invest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o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bond is an “IOU,” certifying that you loaned money to a government or corporation and outlining the terms of repay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er may purchase bond at a discount. The bond has a fixed interest rate for a fixed period of time. When the time is up, the bond is said to have “matured” and the buyer may redeem the bond for the full face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rpo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ld by private companies to raise mone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f company goes bankrupt, bondholders have first claim to the assets, before stockhold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Municipa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ssued by any non-federal governme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paid comes from taxes or from revenues from special projects. Earned interest is exempt from federal income tax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deral govern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safest investment you can make. Even if U.S. government goes bankrupt, it is obligated to repay b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utual fun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essionally managed portfolios made up of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s buy shares, and fund uses money to purchase stocks, bonds, and other invest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fits returned to shareholders monthly, quarterly, or semi-annually in the form of divide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small investors to take advantage of professional account management and diversification normally only available to large inves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 of mutual fu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alance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ludes a variety of stocks and bon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corporate bonds of companies from around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lob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tocks from companies in many parts of the worl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Growth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mphasizes companies that are expected to increase in value; also has higher ris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ome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stock and bonds with high dividends an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ustry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ests in stocks of companies in a single industry (such as technology, health care, banking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unicipal Bond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atures debt instruments of state and local govern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gional Stock Fund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volves stocks of companies from one geographic region of the world (such as Asia or Latin America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tock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ock represents ownership of a corporation. Stockholders own a share of the company and are entitled to a share of the profits as well as a vote in how the company is ru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how earnings are ma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ny profits may be divided among shareholders in the form of dividends. Dividends are usually paid quarter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rger profits can be made through an increase in the value of the stock on the open mark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the market value goes up, the gain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ey is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market value goes down, the loss can be considera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lecting and managing stock often requires study and the help of a good brokerage fir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706464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al estat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ways to inv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a house, live in it, and sell it later at a prof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income property (such as an apartment house or a commercial building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nd rent i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uy land and hold it until it rises in valu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xcellent protection against inflation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n be difficult to convert into cas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specialized type of investment requiring study and knowledge of busines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apital gains: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ofits from the sale of a capital asset such as stocks, bonds, or real estate. These profits are tax-deferred; you do not have to pay the tax on these profits until the asset is sold. Long-term capital gains occur on investments held more than 12 months. Short-term capital gains occur on investments held l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an 12 month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0768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tire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s that help individuals set aside money to be used after they reti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ederal income tax not immediately due on money put into a retirement account, or on the interest it mak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tax paid when money is withdraw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nalty charges apply if money is withdrawn before retirement age, except under certain circumstanc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come after retirement is usually lower, so tax rate is low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dividual Retirement Account (IR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up to $6,000 of pre-tax earnings per year. Contributions can be made in installments or in a lump sum. Those over 50 can contribute up to $7,000 pre-tax annual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oth IRA (also called the IRA Plu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ile the up to $6,000 annual contribution to this plan is not tax-deductible, the earnings on the account are tax-free after five years. The funds from the Roth IRA may be withdrawn after age 59 1/2, if the account owner is disabled, for educational expenses, or for the purchase of a first ho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01(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person to contribute to a savings plan from his or her pre-tax earnings, reducing the amount of tax that must be paid. Employer matches contributions up to a certain leve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Keogh Pl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lows a self-employed person to set aside up to 25% of incom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but not more than $56,000 per year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IRAs – an example of a return on investme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22–30 (9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18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579,46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ributions made only between ages of 31–65 (35 year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$2,000 contributed each yea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otal investment of $70,000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t an interest rate of 9%, by age 65 will have $470,249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02972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mparing savings and investment plan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703224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04920" y="914400"/>
          <a:ext cx="8381880" cy="5022720"/>
        </p:xfrm>
        <a:graphic>
          <a:graphicData uri="http://schemas.openxmlformats.org/drawingml/2006/table">
            <a:tbl>
              <a:tblPr/>
              <a:tblGrid>
                <a:gridCol w="1396800"/>
                <a:gridCol w="1397160"/>
                <a:gridCol w="1396800"/>
                <a:gridCol w="1295640"/>
                <a:gridCol w="1498320"/>
                <a:gridCol w="1397160"/>
              </a:tblGrid>
              <a:tr h="425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instrume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isk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yie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minimum balanc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axable?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vings Accoun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tificate of Deposit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 days or mor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 if insure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0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rpo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nicipal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2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5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federal,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me sta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ock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medi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 gridSpan="6"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.S. Treasur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ll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year or les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–1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o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–30 year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n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000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deral on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tual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 to high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uall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1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irement Fund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en buyer i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years old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w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rate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ies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t maturity</a:t>
                      </a: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voiding investment frau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ach year, billions of dollars are lost to fraudulent investments. Some of the most comm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llegal pyramids, insider trading, and unlicensed investment brok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igh-risk “penny” stocks and fraudulent secur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audulent franchises and business opportun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net services, 900-numbers, and high-tech investments promising high profits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pportunities to invest in movie deals and other entertainment ventures with promises of guaranteed profits and failure to disclose ris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o protect yourself from becoming a victim of investment fraud, take the following action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 informed about investments and industries before inves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alk with others who have made similar invest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information from state and federal regulatory agenc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ever buy over the phone without first investigating the situ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oid investment opportunities promising large returns in a short amount o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me that seem “too good to be true”—they probably ar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or additional information, contact the following websit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ww.ftc.gov; www.fraud.org; www.sec.gov; www.nasaa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061400" y="6323400"/>
            <a:ext cx="1665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P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ay yourself first (a little can add up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0581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6019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 little can add up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ve this each week … at % interest … in 10 years you’ll hav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7.00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4,743.0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4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9,486.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1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4,229.1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8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18,972.1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5.00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5%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$23,715.1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fast food meals or save $7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 can buy … two small cheese pizzas or one large pepperoni pizza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delivered or one new CD or save $14.00 this wee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can you give up to save for your financial goal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savings account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passbook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receives a booklet in which deposits, withdrawals, and interest are recor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interest rate is lower at banks and savings and loans than at credit un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tatement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sically the same as a passbook account, except depositor receives monthly stat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instead of a passb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counts are usually accessible through 24-hour automated teller machines (ATM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s are the same as passbook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nds are easily accessibl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terest-earning checking accou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bines benefits of checking and saving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positor earns interest on any unused money in his/her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5888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money-market deposit accoun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ecking/savings accou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rate paid built on a complex structure that varies with size of balance and curr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level of market interest rat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access your money from an ATM, a teller, or by writing up to three checks a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mmediate access to your mone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requires a minimum balance of $5.000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mited number of checks can be written each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verage yield (rate of return) higher than regular savings accou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ertificates of deposit (CDs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what they are and how they wor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Bank pays a fixed amount of interest for a fixed amount of money during a fixed amount of time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benefit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risk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mple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No fee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ffers higher interest rates than savings account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rade-offs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Restricted access to your money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drawal penalty if cashed before expiration dat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(penalty might be higher than the interest earned)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types of certificates of deposi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1. Rising-rat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t various intervals, such as every six month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2. Stock-indexed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earnings based on the stock market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3. Callable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ith higher rates and long-term maturities, as high as 10–15 years. However, the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bank may “call” the account after a stipulated period, such as one or two years, if interest rates drop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4. Glob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ombine higher interest with a hedge on future changes in the dollar compared to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   other currenci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5. Promotional CDs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ttempt to attract savers with gifts or special rates.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simple and compound interest are calculated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imple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ollar Amount x Interest rate x Length of Time (in years)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simple interest, during the first year you would earn $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$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 the end of two years you would have earned $12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ccount would continue to grow at a rate of $6 per year, despite the accumulated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mpound interest calcul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is paid on original amount of deposit, plus any interest earn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(Original $ Amount + Earned Interest) x Interest Rate x Length of Time = Amount Earn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had $100 in a savings account that paid 6% interest compounded annually, the first year you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would earn $6.00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x 0.06 x 1 = $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0 + $6 = $10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 compound interest, the second year you would earn $6.36 in inte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alculation the second year would look like thi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x 0.06 x 1 = $6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106 + 6.36 = $112.3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hoosing a savings accoun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ctors that determine the dollar yield on an accoun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nterest rate (also called rate of return, or annual yiel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l money earned comes from this facto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following factors reduce money earned and can even turn it into a los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ees, charges, and penalt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ually based on minimum balance requirements, or transaction fe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requireme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ome accounts require a certain balance before paying any intere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 money-market accounts, most banks will pay different interest rates for differ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size balances. (Higher balance earns a higher rate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Balance calculation metho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ost calculate daily. Some use average of all daily balanc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707544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ruth in Savings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he Truth in Savings Act (Federal Reserve Regulation D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quires financial institutions to disclose the following information on savings account plans they offer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ees on deposit accoun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interest ra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ther terms and condi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e annual percent yield (APY), which is the percentage rate expressing the tot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amount of interest that would be received on a $100 deposit based on the annual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rate and frequency of compounding for a 365-day period. Truth in Saving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defines the year as 365 days rather than 360, 366, or some other number. Thi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law eliminates confusion caused by the more than eight million variations o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interest calculation methods previously used by financial institu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704016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rule of 72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8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8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ow many years will it take to double my money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 A SUM OF MONE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EREST R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e.g. for 6%, use 6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t what interest rate will my money double in a set number of years?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72 DIVIDED B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INTEREST RATE REQUIRE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EARS TO DOUB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VESTM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38080" y="365760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762120" y="1905120"/>
            <a:ext cx="1600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28:34Z</dcterms:modified>
  <cp:revision>54</cp:revision>
  <dc:subject/>
  <dc:title>lesson three</dc:title>
</cp:coreProperties>
</file>