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EEC7-1AC5-4080-BEC6-C9953653F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0E1B-2B31-4970-BFA5-9429E64E11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6C9A-4B61-4EBE-B985-FC92B6BA0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A6780-653A-4297-8393-F033A49828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4E22-60DF-4E62-8C6F-079F275A0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503840" y="299520"/>
            <a:ext cx="9176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Colle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544160" y="299880"/>
            <a:ext cx="83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College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ten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sumer privac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8" descr="Picture 1"/>
          <p:cNvPicPr/>
          <p:nvPr/>
        </p:nvPicPr>
        <p:blipFill>
          <a:blip r:embed="rId1"/>
          <a:stretch/>
        </p:blipFill>
        <p:spPr>
          <a:xfrm>
            <a:off x="7662960" y="3606840"/>
            <a:ext cx="64296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credit report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dentifying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, Social Security number, address, and sometimes phone number, previous addres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nd employe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credit history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revious and current types of credit, credit providers, payment habits, outstanding obligations and debts, and extent of credit grante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ublic record information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Usually limited to tax liens, judgments, and bankrupt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or requester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Names of those who have requested information about this consumer in the recent pas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917400" y="6323400"/>
            <a:ext cx="1811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viewing your credit repor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ipulates that an individual, upon request to the consumer-reporting agency, may have access to a copy of his or her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019920" y="2133720"/>
            <a:ext cx="27432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TransUnion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Consumer Relation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916-8800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nsunio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533520" y="2133720"/>
            <a:ext cx="23619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xperian Consumer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sistance Center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88-397-3742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an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3429000" y="2133720"/>
            <a:ext cx="1781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Equifax Credit 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nformation Services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-800-685-1111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quifax.com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457200" y="3581280"/>
            <a:ext cx="800100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receive a copy of your credit report, contact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itional questions about your credit report rights can be directed to: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ederal Trade Commission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tccomplaintassistant.gov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6953760" y="6323400"/>
            <a:ext cx="176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elecommunication devices and servic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lephone (including cellular phon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acsimiles (faxe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nline computer servi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aller I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utomatic Number Identification (ANI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960600" y="6323400"/>
            <a:ext cx="17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electronic monitoring in the workplac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ypes of electronic monitoring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elephone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Voice mail and electronic mail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keystrokes monitorin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ocational detecto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urveillance video camer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692532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cy and informa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Information privacy: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ivacy that involves the rights of individuals in relation to information about them that is circulating in societ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6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privacy is an important issue in the Information A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systems record and store a lot of information about us and our consumer activi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Public and private organizations can share our computer files. For example, the IRS can acces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financial data about you from your ban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mputer data can travel and change hands in just a few secon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Because of these factors, accurate data is paramoun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why information privacy is a sensitive issu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nformation is a very valuable resour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ess to information in our society today offers many benefits to consumers, but also pose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  potential threat to our privacy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922800" y="6323400"/>
            <a:ext cx="1803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information generally available from public sources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emographic information (U.S. censu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elephone directori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irth, marriage, and divor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Voter registration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ampaign contribu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s/vehicle registr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icenses and permits (hunting, fishing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6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Legal information (judgments, bankruptcies, real estate titles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6928200" y="6323400"/>
            <a:ext cx="180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ivate databases available to only those with a legitimate purpose 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mployment informa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report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information (IRS/state tax boards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imin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rvice records (welfare, Medicaid, etc.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choo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7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928920" y="6323400"/>
            <a:ext cx="1797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amending or correcting record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Privacy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requires each federal agency that maintains records to permit individuals to request amendment of his or her record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to amend or expunge a record you must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ontact the agency in ques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wait administrative review of reques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Eurostile-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If request is denied, you can request a court revie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Fair Credit Reporting Act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 gives consumers the right to dispute inaccurate information and permits them to insert their own version of disputed information into a credit report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6921360" y="6323400"/>
            <a:ext cx="1810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’s in a database profile?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atabase profiles are files of information about you that are stored in computer systems and may be used by a variety of organiza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Caslon-Regular"/>
              </a:rPr>
              <a:t>This information includes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Addres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hone and fax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ocial Security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Credit card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er’s license numb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Bank account number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tudent loan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Medical 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Driving record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Worker’s compensation and insurance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Tax record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olitical affiliatio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Spending pattern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Product preference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Caslo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Caslon-Regular"/>
              </a:rPr>
              <a:t>Estimated incom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6936120" y="6323400"/>
            <a:ext cx="178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0: Fair Credit Reporting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uarantees consumer rights in the collection and reporting of information for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credit, employment, insurance, and other consumer business transaction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American citizens the right to request, inspect, and challenge their own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feder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4: Family Educational Rights and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Gives parents and students over 18 access to the student’s schoo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5: Equal Credit Opportunit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Outlaws discrimination in granting credit due to age, gender, marital status,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religion, ethnicity, national origin, or receipt of public assistan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6: Tax Reform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Limits disclosure of tax information and requires that taxpayers be notified wh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their tax records are summoned from record keeper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Rights to Financial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Sets conditions under which federal investigators can access an individual’s bank 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-Demi"/>
              </a:rPr>
              <a:t>account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hat the law says: federal privacy protect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848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78: Electronic Fund Transfer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Requires banks that provide EFT services to disclose the circumstances under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which account information can be disclosed to third part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0: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ess and others that disseminate information to the public from unlawful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government searches and seizure of their work product and other material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4: Cable Communications Poli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cable television subscriber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6: Electronic Communications Privacy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the privacy of electronic communications and transactional data such a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telephone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Computer Matching and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individual privacy in connection with government benefit programs in which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 individual’s records at one government agency are compared against similar record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t other agencie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88: Video Privacy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Mandates a court order to gain access to videocassette rental records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1991: Telephone Consumer Protection Ac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Protects consumers from unwanted telemarketing calls, and restricts the timing of calls 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Eurostile"/>
              </a:rPr>
              <a:t>and the use of auto-dialers in telemarketing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6942960" y="6323400"/>
            <a:ext cx="178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protecting your privacy: your options as a consume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opting out” of direct marketing progra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sk merchant to be removed from his/her mailing li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Select “unsubscribe” link at the bottom of marketing emails and follow the instructions provid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Visit the Direct Marketing Association website at: practicalmoneyskills.com/c6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or contact them at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225 Reinekers Lane, Suite 325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lexandria, VA 2231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+1 212.768.727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n order to opt out for five years or permanently through the national credit reporting agencies, call 1-888-5-OPT-OUT (1-888-567-8688) or go to practicalmoneyskills.com/c6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Eurostile-Demi"/>
              </a:rPr>
              <a:t>your options as a consumer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Answer only necessary information on product warranty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Never give out personal or financial information over the phone unless you know the company and know how the information will be u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Don’t give personal information at point-of-sale transacti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Eurostile-Demi"/>
              </a:rPr>
              <a:t>If a telemarketer calls and you don’t want future solicitations, cite the federal la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6919920" y="6323400"/>
            <a:ext cx="1806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college – lesson 10 - slide 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10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11-19T23:10:28Z</dcterms:modified>
  <cp:revision>54</cp:revision>
  <dc:subject/>
  <dc:title>lesson three</dc:title>
</cp:coreProperties>
</file>