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5BAC-432D-4A95-8968-9FBACA31E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7DC4-FCC8-461F-8066-572CDA250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A14E-A68C-4E10-992A-7FD805C4B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DA23-D908-48F5-8D34-F5FF20B76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0548-94B6-408A-A29D-FE386BE72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F72B-2F99-4819-A937-600666C6A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welv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ing and invest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o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ond is an “IOU,” certifying that you loaned money to a government or corporation and outlining the terms of repay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er may purchase bond at a discount. The bond has a fixed interest rate for a fixed period of time. When the time is up, the bond is said to have “matured” and the buyer may redeem the bond for the full face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d by private companies to raise mo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company goes bankrupt, bondholders have first claim to the assets, before stockhold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unicip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sued by any non-federal govern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paid comes from taxes or from revenues from special projects. Earned interest is exempt from federal income tax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deral gover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afest investment you can make. Even if U.S. government goes bankrupt, it is obligated to repay b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utual fu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essionally managed portfolios made up of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s buy shares, and fund uses money to purchase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its returned to shareholders monthly, quarterly, or semi-annually in the form of divide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small investors to take advantage of professional account management and diversification normally only available to large inves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 of mutual fu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lance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ludes a variety of stocks and bo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corporate bonds of companies from around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tocks from companies in many parts of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owth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mphasizes companies that are expected to increase in value; also has higher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ome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stocks and bonds with high dividends a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ustry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ests in stocks of companies in a single industry (such as technology, health care, bank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nicip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debt instruments of state and local govern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gion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olves stocks of companies from one geographic region of the world (such as Asia or Latin America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ock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ck represents ownership of a corporation. Stockholders own a share of the company and are entitled to a share of the profits as well as a vote in how the company is ru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earnings are ma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profits may be divided among shareholders in the form of dividends. Dividends are usually paid quarter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rger profits can be made through an increase in the value of the stock on the open mark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 market value goes up, the gain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ey is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market value goes down, the loss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lecting and managing stock often requires study and the help of a good brokerage fir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699480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al estat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ys to inv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a house, live in it, and sell it later at a prof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income property (such as an apartment house or a commercial building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 rent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land and hold it until it rises in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cellent protection against infla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difficult to convert into cash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pecialized type of investment requiring study and knowledge of busines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pital gains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fits from the sale of a capital asset such as stocks, bonds, or real estate. These profits are tax-deferred; you do not have to pay the tax on these profits until the asset is sold. Long-term capital gains occur on investments held more than 12 months. Short-term capital gains occur on investments held l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n 12 month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0120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tire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s that help individuals set aside money to be used after they reti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deral income tax not immediately due on money put into a retirement account, or on the interest it mak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tax paid when money is withdraw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nalty charges apply if money is withdrawn before retirement age, except under certain circumstanc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after retirement is usually lower, so tax rate is l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ividual Retirement Account (IR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up to $6,000 of pre-tax earnings per year. Contributions can be made in installments or in a lump sum. Those over 50 can contribute up to $7,000 pre-tax annual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th IRA (also called the IRA Pl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ile the up to $6,000 annual contribution to this plan is not tax-deductible, the earnings on the account are tax-free after five years. The funds from the Roth IRA may be withdrawn after age 59, if the account owner is disabled, for educational expenses, or for the purchase of a first ho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01(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to a savings plan from his or her pre-tax earnings, reducing the amount of tax that must be paid. Employer matches contributions up to a certain leve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eogh Pl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self-employed person to set aside up to 25% of inco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but not more than $56,000 per year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953400" y="6323400"/>
            <a:ext cx="174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IRAs – an example of a return on invest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22–30 (9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18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579,46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31–65 (35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made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70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470,24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6968160" y="6323400"/>
            <a:ext cx="173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paring savings and invest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968880" y="6323400"/>
            <a:ext cx="1730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04920" y="914400"/>
          <a:ext cx="8381880" cy="50227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  <a:gridCol w="1295640"/>
                <a:gridCol w="1498320"/>
                <a:gridCol w="13971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sk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ie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nimum balan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xable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 Accou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tificate of Deposi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 days or mor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po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nicipa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2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federal,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 sta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.S. Treasu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l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year or les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1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tual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ual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irement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n buyer 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years o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 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voiding investment frau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ach year, billions of dollars are lost to fraudulent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ome of the most common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llegal pyramids, insider trading, and unlicensed investment brok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gh-risk “penny” stocks and fraudulent secur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audulent franchises and business opportun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net services, 900-numbers, and high-tech investments promising high profit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ies to invest in movie deals and other entertainment ventures with promises of guaranteed profits and failure to disclose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 protect yourself from becoming a victim of investment fraud, take the following action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 informed about investments and industries before inves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lk with others who have made similar invest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information from state and federal regulatory agen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ver buy over the phone without first investigating the situ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oid investment opportunities promising large returns in a short amoun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me that seem “too good to be true”—they probably 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additional information, contact the following websit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ftc.gov; www.fraud.org; www.sec.gov; www.nasa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996240" y="6323400"/>
            <a:ext cx="171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P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ay yourself first (a little can add up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6994800" y="6323400"/>
            <a:ext cx="171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 little can add up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ve this each week…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% interest…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10 years you’ll have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7.00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4,743.0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4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9,486.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1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4,229.1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8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8,972.1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5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23,715.1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… two fast food meals or save $7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… two small cheese pizzas or one large pepperoni pizza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delivered or one new CD or save $14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can you give up to save for your financial goal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savings account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assbook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receives a booklet in which deposits, withdrawals, and interest are recor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interest rate is lower at banks and savings and loans than at credit un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atement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ically the same as a passbook account, except depositor receives monthly stat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instead of a passb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ounts are usually accessible through 24-hour automated teller machines (ATM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s are the same as passbook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est-earning checking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bines benefits of checking and saving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earns interest on any unused money in his/her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552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oney-market deposit accoun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ecking/savings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 paid built on a complex structure that varies with size of balance and curr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level of market interest rat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access your money from an ATM, a teller, or by writing up to three checks a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mmediate access to your mone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requires a minimum balance of $5,00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mited number of checks can be written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yield (rate of return) higher than regular savings accou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98508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ertificates of deposit (CDs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pays a fixed amount of interest for a fixed amount of money during a fixed amount of tim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ris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mp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fe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fers higher interest rates than savings account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stricted access to your mone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drawal penalty if cashed before expiration dat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(penalty might be higher than the interest earned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ypes of certificates of deposi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. Rising-rat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t various intervals, such as every six month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. Stock-indexed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earnings based on the stock market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3. Callabl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nd long-term maturities, as high as 10–15 years. However, th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bank may “call” the account after a stipulated period, such as one or two years, if interest rates drop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4. Glob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bine higher interest with a hedge on future changes in the dollar compared t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other currenci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5. Promotion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ttempt to attract savers with gifts or special rat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990120" y="6323400"/>
            <a:ext cx="172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simple and compound interest are calculate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mple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llar Amount x Interest rate x Length of Time (in years)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simple interest, during the first year you would earn $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the end of two years you would have earned $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ccount would continue to grow at a rate of $6 per year, despite the accumulate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ound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is paid on original amount of deposit, plus any interest earn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Original $ Amount + Earned Interest) x Interest Rate x Length of Time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interest compounded annually, the first year yo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would earn $6.00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+ $6 = $1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 compound interest, the second year you would earn $6.3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alculation the second year would look like thi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x 0.06 x 1 = $6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+ 6.36 = $112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9922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hoosing a savings accou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tors that determine the dollar yield on an accoun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 (also called rate of return, or annual yiel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money earned comes from this fac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following factors reduce money earned and can even turn it into a los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s, charges, and penal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ually based on minimum balance requirements, or transaction fe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requir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ccounts require a certain balance before paying any intere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 money-market accounts, most banks will pay different interest rates for differ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size balances. (Higher balance earns a higher rate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calculation metho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calculate daily. Some use average of all daily balan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01028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ruth in Savings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Truth in Savings Act (Federal Reserve Regulation D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financial institutions to disclose the following information on savings account plans they offer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es on deposit accou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terms and condi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nnual percent yield (APY), which is the percentage rate expressing the tot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mount of interest that would be received on a $100 deposit based on the annu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rate and frequency of compounding for a 365-day period. Truth in Saving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efines the year as 365 days rather than 360, 366, or some other number. Thi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law eliminates confusion caused by the more than eight million variation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interest calculation methods previously used by financial institu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697428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Rule of 72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many years will it take to double my money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 A SUM OF MONE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 for 6%, use 6)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 what interest rate will my money double in a set number of year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TEREST RATE REQU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EST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838080" y="34290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762120" y="19051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7T19:10:33Z</dcterms:modified>
  <cp:revision>51</cp:revision>
  <dc:subject/>
  <dc:title>lesson three</dc:title>
</cp:coreProperties>
</file>